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9.png" ContentType="image/png"/>
  <Override PartName="/ppt/media/image14.wmf" ContentType="image/x-wmf"/>
  <Override PartName="/ppt/media/image1.jpeg" ContentType="image/jpeg"/>
  <Override PartName="/ppt/media/image5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7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792913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793200" cy="99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48040" y="-360"/>
            <a:ext cx="2944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901800" y="748800"/>
            <a:ext cx="4991040" cy="374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78960" y="4741560"/>
            <a:ext cx="543564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0" y="9481680"/>
            <a:ext cx="2944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48040" y="9481680"/>
            <a:ext cx="2944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72EFF-D0A8-42CE-8984-57E031BB725D}" type="slidenum">
              <a:rPr b="0" lang="bg-B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01800" y="749160"/>
            <a:ext cx="4991040" cy="37436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78960" y="4741560"/>
            <a:ext cx="543564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48040" y="9482040"/>
            <a:ext cx="2944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02B2B-1B92-402E-8A65-0F02F511BA68}" type="slidenum">
              <a:rPr b="0" lang="bg-B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884E-B679-4054-8221-0E2B3F2E0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95D2-3C90-4495-8AEF-6E5DBDDB3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F67CC3-4793-41A6-BE9D-AF59BA8F6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807F9E-09A6-4D96-9279-6E8F9E854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D70D36-D218-4717-B287-5FF575C9A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FB29D5-F385-41F0-AEF6-E9E2CF643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A6B512-C18C-4F05-A791-DFA0279B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B4B0AD-1FBC-4084-962D-772001AC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04FB3C-A210-4BA4-9E68-C9660FE14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9A776A-4DC5-403A-89FB-07D4EF4A2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150976-1777-4DA6-8C8C-26F199857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2EED-EE7B-4B58-8B42-8E1FBCFA0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00D1-CCE6-414F-B1C0-185144936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36B32-2F1D-446B-BFFF-33E196941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8B39A-87E5-466A-A8DC-72494E9C3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F0BD2-7C02-4274-A946-F279A89A2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884CB-723F-4DCB-BB25-DB2739B02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DDB0C-7323-4ED5-96DF-85354BAA5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A93F5-2E47-4A92-BE6C-1BC4638FC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F2076-88BE-48B7-9728-DC3C2490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00F3-2A37-4CEB-8858-235F6F1D7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66F86-DCB5-4C49-9308-1F93E853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F2B82-BA84-4308-A1BF-AE69BDA2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830B6-7649-4E0E-B5F9-B1A9E7598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45E00-E22A-4B97-977F-8F5D69590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4FD10-7C85-46A8-9E5A-1D3B5299C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94815-D2F5-4A7D-9C53-72BB9209B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89E75-E841-4369-9597-64B0624DF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08722-EC63-4500-A910-A5C38306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7C21B-9A44-4145-96DB-77E4988DF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FEC95-C64B-4E06-A890-0FFB22634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6D18-1E5B-4615-9C90-0D38EDE37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A35F7-7E3C-4082-ACE1-E7E785A5C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3CA6A-0E97-48DE-B3F0-1EE4F0BE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A836A-F9FF-4556-A97E-8F2A6179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AA607-D572-418F-A1ED-15AE30E1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61898-6635-4A44-ACD5-B7B520B9E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B8EFA-AEB2-4A77-919F-139A414F0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6FADD-499A-4EE5-87FF-930E90783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BDF31-DF24-40A1-B04A-73D65A281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A962D-A560-421F-8EFB-E8898FC21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65FF4-D692-460A-9707-90075FEC6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4ED2-397A-45BC-8568-0AC90D054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5F235-5678-43A7-8B66-A72BC6CCD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235FE-554C-4842-BD86-A1063DAA2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0B009-E9F8-455D-A9A5-BD3B4C878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673A8-AB1B-41A1-9A06-D90DFA7A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05DA8-D0C9-47E1-9E2B-CB20BC24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2140E-71D1-456A-B431-603C5A8F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62AE0-5EDA-431C-B079-56C14CB68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F84C4-A926-4162-B6AE-20EF5097B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623A2-5BF2-4049-AA42-079C4BEAF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3B7FE-9BB4-4FD0-8B5C-B3CFA6CE9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D541-63C6-49C4-8DEE-65D406385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DE644-8041-4341-A626-1A4DACBB4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A7F2E-1E6B-423C-9EC2-3D569E2E7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987ED-7F9E-4DE7-9C35-2B6ED12BD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8E612-BC3A-4032-B2D7-5B2A74911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C5F2F-4604-4B0A-8B3D-DD77EDA27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91D2C-2D9E-4BF5-BB95-C961A4A8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CD715-E8FE-45F8-8CD4-E1508298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C4F8A-3182-4E5F-810A-E12615D4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51A67-2B60-4336-A5A9-EF97517EE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AFDC2-40BF-4465-9BE0-94933C4EE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6237-BEFD-45E4-9C31-7E054C512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9DC88-0BD1-42F3-A322-1EB274E8A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F2028E-B0AD-4342-A4A7-2AB3B3523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92768-9179-4CF2-9FD6-0A6A435E2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A41E62-EF6E-465D-A7BA-6A1E5FC28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BB050-19AB-4A30-AC10-3051295C5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8676E-2FA8-4410-80E3-55FB21A1C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B3033-DB2B-4A3F-828F-261D735C5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A2302F-02BC-47E4-8455-07B8570E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22243-406D-426B-BA76-736D9444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0E53A-D81F-446F-8A3F-BF5926E9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2997-A61E-413C-A7E9-F60F1CE1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BF7A0-7A09-4C6E-AB8A-FF94345F8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45746-3425-47B1-83D9-0613D6371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7E6237-B659-462E-A9DB-2CE9648F0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709BF5-FB36-45E7-B23C-FC577BFAC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738AC-A43A-43C8-951D-4E97E9B5C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BAB56-F30A-463E-BFF2-E59FA15EE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8674CD-9BB5-4D98-BB33-866C43B41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DC19C8-AF0A-4DB9-BE14-4E80A2A69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0A98AD-BEB1-4D92-9289-FD21215F9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4250A-208B-47B4-8DEE-4DFFD544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763B-D026-4FA0-9562-847D0CCF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C873BA-CEA5-48E5-892A-8BB3F7C2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7B9696-CD75-4B22-8D20-33FFE97E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87581B-95C6-4B31-ACCF-998979AD8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143AEA-B1CF-4C9C-AB7B-25B638D69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E96683-CB3E-47A1-A8D6-EA9F8CD96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D1C6DF-AFDD-4F60-8BC8-FCF5840A0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09B383-0D13-4A5B-9680-700007B4A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669371-AC37-4E78-B6D7-F155BFAC6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F822B9-BE89-42AC-957E-3E2006BC9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AE6DD4-11BE-4FB8-8BD3-93B2C0FCC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F550-C2C5-4583-BF60-1D9F89A9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05A5BC-AFAB-4CB5-985C-3E2E321E1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CD139C-85EA-4773-9A64-41C0EE75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C8ED51-523C-4402-9C66-763A23FA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C1E228-955E-427F-A84B-ABC6D49F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B5E268-0A38-437E-A5DE-DF0E7A202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B0A641-2B17-454A-9F41-730637727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C99ADE-7DEE-48EB-B6B4-9944CF389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8F8E70-BB05-4C73-9C7B-066669463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E2BD9B-8F4A-4A78-B5D7-0B4AF3143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C09C0C-D9DA-49BE-98C2-5E3739CDB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7CD64-0F1B-4C69-BB63-1E07F476C241}" type="datetime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0E820-EC90-463D-833F-F139EED3E49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12640" y="1054080"/>
            <a:ext cx="8637840" cy="19080"/>
            <a:chOff x="512640" y="1054080"/>
            <a:chExt cx="8637840" cy="1908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"/>
          <p:cNvGrpSpPr/>
          <p:nvPr/>
        </p:nvGrpSpPr>
        <p:grpSpPr>
          <a:xfrm>
            <a:off x="512640" y="5346720"/>
            <a:ext cx="8637840" cy="17280"/>
            <a:chOff x="512640" y="5346720"/>
            <a:chExt cx="8637840" cy="17280"/>
          </a:xfrm>
        </p:grpSpPr>
        <p:pic>
          <p:nvPicPr>
            <p:cNvPr id="51" name="Straight Connector 1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7840" cy="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F73A4-6590-485A-8BE1-7231B3F75818}" type="datetime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7FA78-0BD1-4E6B-BB23-CF12B24A34D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12640" y="1054080"/>
            <a:ext cx="8637840" cy="19080"/>
            <a:chOff x="512640" y="1054080"/>
            <a:chExt cx="8637840" cy="1908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B72DC-0F00-46FD-B282-C992A5321F84}" type="datetime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DA66B-28A9-4F7F-BA4D-6BC89622AC1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"/>
          <p:cNvGrpSpPr/>
          <p:nvPr/>
        </p:nvGrpSpPr>
        <p:grpSpPr>
          <a:xfrm>
            <a:off x="512640" y="3438360"/>
            <a:ext cx="8637840" cy="17640"/>
            <a:chOff x="512640" y="3438360"/>
            <a:chExt cx="8637840" cy="17640"/>
          </a:xfrm>
        </p:grpSpPr>
        <p:pic>
          <p:nvPicPr>
            <p:cNvPr id="145" name="Straight Connector 1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3CA35-14A1-4993-A7F7-EBE86FA1BF20}" type="datetime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AFEA2-86F3-4989-964F-3613BDB27DF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"/>
          <p:cNvGrpSpPr/>
          <p:nvPr/>
        </p:nvGrpSpPr>
        <p:grpSpPr>
          <a:xfrm>
            <a:off x="512640" y="6016680"/>
            <a:ext cx="8637840" cy="19080"/>
            <a:chOff x="512640" y="6016680"/>
            <a:chExt cx="8637840" cy="19080"/>
          </a:xfrm>
        </p:grpSpPr>
        <p:pic>
          <p:nvPicPr>
            <p:cNvPr id="189" name="Straight Connector 1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78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4857-8CFE-4AFF-A062-66F0847D0609}" type="datetime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BF549-0F12-4519-9784-DFE955EC8DC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6E6F5-34AF-423C-9F39-4FD537F7A0E3}" type="datetime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38B58-6A65-44B2-995F-DAE3FDA2C34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"/>
          <p:cNvGrpSpPr/>
          <p:nvPr/>
        </p:nvGrpSpPr>
        <p:grpSpPr>
          <a:xfrm>
            <a:off x="512640" y="5846760"/>
            <a:ext cx="8637840" cy="17640"/>
            <a:chOff x="512640" y="5846760"/>
            <a:chExt cx="8637840" cy="17640"/>
          </a:xfrm>
        </p:grpSpPr>
        <p:pic>
          <p:nvPicPr>
            <p:cNvPr id="274" name="Straight Connector 1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C7D59-8A45-4AF4-BBC8-F8338599DC5B}" type="datetime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45305-F33D-4CF6-8682-5D377B96D2E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7090F-A612-43CF-8454-E3B97359EA39}" type="datetime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68A40-093F-47E4-A86A-E8121797149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4000A-86CE-4D6B-8A74-81642CE948FD}" type="datetime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C8779-8250-4D48-8B2B-44F8B9E76A0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3" descr=""/>
          <p:cNvPicPr/>
          <p:nvPr/>
        </p:nvPicPr>
        <p:blipFill>
          <a:blip r:embed="rId1"/>
          <a:stretch/>
        </p:blipFill>
        <p:spPr>
          <a:xfrm>
            <a:off x="3121200" y="5133960"/>
            <a:ext cx="2887560" cy="1671480"/>
          </a:xfrm>
          <a:prstGeom prst="rect">
            <a:avLst/>
          </a:prstGeom>
          <a:ln w="0">
            <a:noFill/>
          </a:ln>
        </p:spPr>
      </p:pic>
      <p:sp>
        <p:nvSpPr>
          <p:cNvPr id="407" name="Slide Number Placeholder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F459A-6C60-44DE-A9D4-6B12604CB67B}" type="slidenum">
              <a:rPr b="0" lang="en-US" sz="1200" spc="-1" strike="noStrike">
                <a:solidFill>
                  <a:srgbClr val="7b9899"/>
                </a:solidFill>
                <a:latin typeface="Georg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4"/>
          <p:cNvSpPr/>
          <p:nvPr/>
        </p:nvSpPr>
        <p:spPr>
          <a:xfrm>
            <a:off x="1738440" y="1676520"/>
            <a:ext cx="6019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торни интервенции от Стратегическия план за развитие на земеделието и селските райони за периода 2023 – 2027 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21" descr=""/>
          <p:cNvPicPr/>
          <p:nvPr/>
        </p:nvPicPr>
        <p:blipFill>
          <a:blip r:embed="rId2"/>
          <a:stretch/>
        </p:blipFill>
        <p:spPr>
          <a:xfrm>
            <a:off x="3054240" y="414360"/>
            <a:ext cx="901800" cy="139536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1"/>
          <p:cNvSpPr/>
          <p:nvPr/>
        </p:nvSpPr>
        <p:spPr>
          <a:xfrm>
            <a:off x="4038480" y="380880"/>
            <a:ext cx="1420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ЪРЖАВЕН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НД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ЕДЕЛ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1" descr=""/>
          <p:cNvPicPr/>
          <p:nvPr/>
        </p:nvPicPr>
        <p:blipFill>
          <a:blip r:embed="rId3"/>
          <a:stretch/>
        </p:blipFill>
        <p:spPr>
          <a:xfrm>
            <a:off x="109440" y="5111640"/>
            <a:ext cx="3011760" cy="16938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2" descr=""/>
          <p:cNvPicPr/>
          <p:nvPr/>
        </p:nvPicPr>
        <p:blipFill>
          <a:blip r:embed="rId4"/>
          <a:stretch/>
        </p:blipFill>
        <p:spPr>
          <a:xfrm>
            <a:off x="6008760" y="5133960"/>
            <a:ext cx="3031920" cy="17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Slide Number Placeholder 12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1F260-EA4E-4C05-93A6-394C305EB1A2}" type="slidenum">
              <a:rPr b="0" lang="en-US" sz="1200" spc="-1" strike="noStrike">
                <a:solidFill>
                  <a:srgbClr val="7b9899"/>
                </a:solidFill>
                <a:latin typeface="Georg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ClipboardAsImage"/>
          <p:cNvSpPr/>
          <p:nvPr/>
        </p:nvSpPr>
        <p:spPr>
          <a:xfrm>
            <a:off x="2178000" y="34592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ClipboardAsImage"/>
          <p:cNvSpPr/>
          <p:nvPr/>
        </p:nvSpPr>
        <p:spPr>
          <a:xfrm>
            <a:off x="1981080" y="31464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2"/>
          <p:cNvSpPr/>
          <p:nvPr/>
        </p:nvSpPr>
        <p:spPr>
          <a:xfrm>
            <a:off x="1258920" y="2805120"/>
            <a:ext cx="707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Я ЗА ВНИМАНИЕТО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Title 1" descr=""/>
          <p:cNvPicPr/>
          <p:nvPr/>
        </p:nvPicPr>
        <p:blipFill>
          <a:blip r:embed="rId1"/>
          <a:stretch/>
        </p:blipFill>
        <p:spPr>
          <a:xfrm>
            <a:off x="401760" y="304920"/>
            <a:ext cx="8742240" cy="841320"/>
          </a:xfrm>
          <a:prstGeom prst="rect">
            <a:avLst/>
          </a:prstGeom>
          <a:ln w="0">
            <a:noFill/>
          </a:ln>
        </p:spPr>
      </p:pic>
      <p:sp>
        <p:nvSpPr>
          <p:cNvPr id="414" name="Slide Number Placeholder 12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8A067-F12C-42D6-819D-B2F933B2A342}" type="slidenum">
              <a:rPr b="0" lang="en-US" sz="1200" spc="-1" strike="noStrike">
                <a:solidFill>
                  <a:srgbClr val="7b9899"/>
                </a:solidFill>
                <a:latin typeface="Georg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ounded Rectangle 5"/>
          <p:cNvSpPr/>
          <p:nvPr/>
        </p:nvSpPr>
        <p:spPr>
          <a:xfrm>
            <a:off x="457200" y="1143000"/>
            <a:ext cx="8153280" cy="510552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ИЧЕСКИ ПЛАН ЗА РАЗВИТИЕ НА ЗЕМЕДЕЛИЕТО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СКИТЕ РАЙОНИ НА РЕПУБЛИКА БЪЛГАРИЯ ЗА ПЕРИОДА 2023-2027 г. са включени следните с</a:t>
            </a: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торни интервенции :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7c715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ектора на плодовете и зеленчуц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7c715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ектора на млякото и млечните продук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7c715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ектора на пчелните продук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7c715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лозаро-винарския се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c715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Title 1" descr=""/>
          <p:cNvPicPr/>
          <p:nvPr/>
        </p:nvPicPr>
        <p:blipFill>
          <a:blip r:embed="rId1"/>
          <a:stretch/>
        </p:blipFill>
        <p:spPr>
          <a:xfrm>
            <a:off x="401760" y="304920"/>
            <a:ext cx="8834400" cy="907920"/>
          </a:xfrm>
          <a:prstGeom prst="rect">
            <a:avLst/>
          </a:prstGeom>
          <a:ln w="0">
            <a:noFill/>
          </a:ln>
        </p:spPr>
      </p:pic>
      <p:sp>
        <p:nvSpPr>
          <p:cNvPr id="417" name="Slide Number Placeholder 12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54BAC-BE12-41B5-AFEF-8D566113AD65}" type="slidenum">
              <a:rPr b="0" lang="en-US" sz="1200" spc="-1" strike="noStrike">
                <a:solidFill>
                  <a:srgbClr val="7b9899"/>
                </a:solidFill>
                <a:latin typeface="Georg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ounded Rectangle 7"/>
          <p:cNvSpPr/>
          <p:nvPr/>
        </p:nvSpPr>
        <p:spPr>
          <a:xfrm>
            <a:off x="762120" y="1371600"/>
            <a:ext cx="7584840" cy="320040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иода 02-13.10.2023 г. беше проведен прием за 2023г. в който бяха подадени 2 бр. заявления за подпомагане по интервенциите в сектор плодове и зеленчуци  със заявени разходи за целия период по оперативните програми в размер на 4 169 154.85 л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интервенциите в сектора на млякото и млечните продукти няма подадени заявления в рамките на прием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иода на прием за 2024г. - 01-31.08.2024 г. е подадено едно заявление за подпомагане по интервенциите в сектор плодове и зеленчуци  със заявени разходи за целия период по оперативните програми в размер на 882 950 л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ounded Rectangle 9"/>
          <p:cNvSpPr/>
          <p:nvPr/>
        </p:nvSpPr>
        <p:spPr>
          <a:xfrm>
            <a:off x="838080" y="4951440"/>
            <a:ext cx="7585200" cy="114300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вете договорирани заявления през финансова 2024 г. е изплатена финансова помощ в размер на 305 405.46 лв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1" descr=""/>
          <p:cNvPicPr/>
          <p:nvPr/>
        </p:nvPicPr>
        <p:blipFill>
          <a:blip r:embed="rId1"/>
          <a:stretch/>
        </p:blipFill>
        <p:spPr>
          <a:xfrm>
            <a:off x="401760" y="304920"/>
            <a:ext cx="8742240" cy="841320"/>
          </a:xfrm>
          <a:prstGeom prst="rect">
            <a:avLst/>
          </a:prstGeom>
          <a:ln w="0">
            <a:noFill/>
          </a:ln>
        </p:spPr>
      </p:pic>
      <p:sp>
        <p:nvSpPr>
          <p:cNvPr id="421" name="Slide Number Placeholder 12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B83A4-68B1-40D7-90AD-9A0601B53D2A}" type="slidenum">
              <a:rPr b="0" lang="en-US" sz="1200" spc="-1" strike="noStrike">
                <a:solidFill>
                  <a:srgbClr val="7b9899"/>
                </a:solidFill>
                <a:latin typeface="Georg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ounded Rectangle 7"/>
          <p:cNvSpPr/>
          <p:nvPr/>
        </p:nvSpPr>
        <p:spPr>
          <a:xfrm>
            <a:off x="762120" y="1371600"/>
            <a:ext cx="7584840" cy="83808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иода на прием 17-26.07.2023 г. са подадени 1 365 бр. заявления за подпомагане с общ размер на заявената финансова помощ 5 298 905 л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"/>
          <p:cNvPicPr/>
          <p:nvPr/>
        </p:nvPicPr>
        <p:blipFill>
          <a:blip r:embed="rId2"/>
          <a:stretch/>
        </p:blipFill>
        <p:spPr>
          <a:xfrm>
            <a:off x="762120" y="2306520"/>
            <a:ext cx="7584840" cy="452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151920" y="2895120"/>
            <a:ext cx="8504280" cy="47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9500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9500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9500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5" name="Slide Number Placeholder 7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EA592-8B4E-42EB-92B9-6B307AB73079}" type="slidenum">
              <a:rPr b="0" lang="en-US" sz="1200" spc="-1" strike="noStrike">
                <a:solidFill>
                  <a:srgbClr val="7b9899"/>
                </a:solidFill>
                <a:latin typeface="Georg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Title 1" descr=""/>
          <p:cNvPicPr/>
          <p:nvPr/>
        </p:nvPicPr>
        <p:blipFill>
          <a:blip r:embed="rId1"/>
          <a:stretch/>
        </p:blipFill>
        <p:spPr>
          <a:xfrm>
            <a:off x="401760" y="304920"/>
            <a:ext cx="8742240" cy="841320"/>
          </a:xfrm>
          <a:prstGeom prst="rect">
            <a:avLst/>
          </a:prstGeom>
          <a:ln w="0">
            <a:noFill/>
          </a:ln>
        </p:spPr>
      </p:pic>
      <p:sp>
        <p:nvSpPr>
          <p:cNvPr id="427" name="Rounded Rectangle 7"/>
          <p:cNvSpPr/>
          <p:nvPr/>
        </p:nvSpPr>
        <p:spPr>
          <a:xfrm>
            <a:off x="587520" y="1219320"/>
            <a:ext cx="8315280" cy="61416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писани договори по прием 2023 г., изплатени през финансова 2023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ounded Rectangle 16"/>
          <p:cNvSpPr/>
          <p:nvPr/>
        </p:nvSpPr>
        <p:spPr>
          <a:xfrm>
            <a:off x="808200" y="1917720"/>
            <a:ext cx="7984800" cy="121932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ъв връзка с късното приемане на нормативните актове, следователно разработването на процедури за работа, системите ИСАК и СЕУ, за финансовата 2023 г. са изплатени 337 204.48 лв. на 168 бенефициери. Всички останали допустими заявления са платени във финансовата 2024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1447920" y="3327480"/>
          <a:ext cx="6553080" cy="3225600"/>
        </p:xfrm>
        <a:graphic>
          <a:graphicData uri="http://schemas.openxmlformats.org/drawingml/2006/table">
            <a:tbl>
              <a:tblPr/>
              <a:tblGrid>
                <a:gridCol w="4208400"/>
                <a:gridCol w="1104840"/>
                <a:gridCol w="1239840"/>
              </a:tblGrid>
              <a:tr h="1778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тервенц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e0b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р. заявл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e0b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платена су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e0b4"/>
                    </a:solidFill>
                  </a:tcPr>
                </a:tc>
              </a:tr>
              <a:tr h="3808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E2 - Борба срещу агресорите и болестите в кошера, особено срещу вароатоза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e4d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e4d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 686.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e4d6"/>
                    </a:solidFill>
                  </a:tcPr>
                </a:tc>
              </a:tr>
              <a:tr h="3808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E3 - Подновяване на пчелните кошери в Съюза, включително развъждане на пчел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e4d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e4d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 590.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e4d6"/>
                    </a:solidFill>
                  </a:tcPr>
                </a:tc>
              </a:tr>
              <a:tr h="19080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E5 - Инвестиции в материални и нематериални актив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e4d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e4d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5 779.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e4d6"/>
                    </a:solidFill>
                  </a:tcPr>
                </a:tc>
              </a:tr>
              <a:tr h="76176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E6A- Действия за подпомагане на лабораториите за анализ на пчелните продукти, загубата на пчели или спада на производителността, както и потенциално токсичните за пчелите вещест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e4d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e4d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99.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e4d6"/>
                    </a:solidFill>
                  </a:tcPr>
                </a:tc>
              </a:tr>
              <a:tr h="5716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E7A - Действия за запазване или увеличаване на наличния брой пчелни кошери в Съюза, включително развъждане на пчели - пчелни май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e4d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e4d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 736.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e4d6"/>
                    </a:solidFill>
                  </a:tcPr>
                </a:tc>
              </a:tr>
              <a:tr h="57132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E7A - Действия за запазване или увеличаване на наличния брой пчелни кошери в Съюза, включително развъждане на пчели - отвод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e4d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e4d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3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e4d6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e0b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e0b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7 204.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e0b4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151920" y="2895120"/>
            <a:ext cx="8504280" cy="47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9500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9500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9500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1" name="Slide Number Placeholder 7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A1CB5-BE2D-47FC-B149-7A73DE515B61}" type="slidenum">
              <a:rPr b="0" lang="en-US" sz="1200" spc="-1" strike="noStrike">
                <a:solidFill>
                  <a:srgbClr val="7b9899"/>
                </a:solidFill>
                <a:latin typeface="Georg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Title 1" descr=""/>
          <p:cNvPicPr/>
          <p:nvPr/>
        </p:nvPicPr>
        <p:blipFill>
          <a:blip r:embed="rId1"/>
          <a:stretch/>
        </p:blipFill>
        <p:spPr>
          <a:xfrm>
            <a:off x="401760" y="304920"/>
            <a:ext cx="8742240" cy="841320"/>
          </a:xfrm>
          <a:prstGeom prst="rect">
            <a:avLst/>
          </a:prstGeom>
          <a:ln w="0">
            <a:noFill/>
          </a:ln>
        </p:spPr>
      </p:pic>
      <p:sp>
        <p:nvSpPr>
          <p:cNvPr id="433" name="Rounded Rectangle 7"/>
          <p:cNvSpPr/>
          <p:nvPr/>
        </p:nvSpPr>
        <p:spPr>
          <a:xfrm>
            <a:off x="587520" y="1219320"/>
            <a:ext cx="8315280" cy="53316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писани договори по прием 2023 г., изплатени през финансова 2024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4" descr=""/>
          <p:cNvPicPr/>
          <p:nvPr/>
        </p:nvPicPr>
        <p:blipFill>
          <a:blip r:embed="rId2"/>
          <a:stretch/>
        </p:blipFill>
        <p:spPr>
          <a:xfrm>
            <a:off x="762120" y="1981080"/>
            <a:ext cx="8001000" cy="449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Title 1" descr=""/>
          <p:cNvPicPr/>
          <p:nvPr/>
        </p:nvPicPr>
        <p:blipFill>
          <a:blip r:embed="rId1"/>
          <a:stretch/>
        </p:blipFill>
        <p:spPr>
          <a:xfrm>
            <a:off x="365040" y="152280"/>
            <a:ext cx="8742600" cy="658800"/>
          </a:xfrm>
          <a:prstGeom prst="rect">
            <a:avLst/>
          </a:prstGeom>
          <a:ln w="0">
            <a:noFill/>
          </a:ln>
        </p:spPr>
      </p:pic>
      <p:sp>
        <p:nvSpPr>
          <p:cNvPr id="436" name="Slide Number Placeholder 12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FA202-FFC1-4445-B082-29EA53405875}" type="slidenum">
              <a:rPr b="0" lang="en-US" sz="1200" spc="-1" strike="noStrike">
                <a:solidFill>
                  <a:srgbClr val="7b9899"/>
                </a:solidFill>
                <a:latin typeface="Georg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ounded Rectangle 7"/>
          <p:cNvSpPr/>
          <p:nvPr/>
        </p:nvSpPr>
        <p:spPr>
          <a:xfrm>
            <a:off x="838080" y="762120"/>
            <a:ext cx="7585200" cy="83808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иода на прием 08-22.02.2024 г. са подадени 1 729 бр. заявления за подпомагане с общ размер на заявената финансова помощ 8 047 654 л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2" descr=""/>
          <p:cNvPicPr/>
          <p:nvPr/>
        </p:nvPicPr>
        <p:blipFill>
          <a:blip r:embed="rId2"/>
          <a:stretch/>
        </p:blipFill>
        <p:spPr>
          <a:xfrm>
            <a:off x="871560" y="1600200"/>
            <a:ext cx="7408800" cy="4051440"/>
          </a:xfrm>
          <a:prstGeom prst="rect">
            <a:avLst/>
          </a:prstGeom>
          <a:ln w="0">
            <a:noFill/>
          </a:ln>
        </p:spPr>
      </p:pic>
      <p:sp>
        <p:nvSpPr>
          <p:cNvPr id="439" name="Rounded Rectangle 6"/>
          <p:cNvSpPr/>
          <p:nvPr/>
        </p:nvSpPr>
        <p:spPr>
          <a:xfrm>
            <a:off x="973080" y="5943600"/>
            <a:ext cx="7585200" cy="69840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емът на заявления за плащане приключи на 31.08.2024 г. за сключените договори в разполагаемият бюджет, а за сключените договори под условие ще продължи до 30.09.2024г. В момента се извършват административни проверки на подадените заявления като по всички заявления предстои плащане до 15.10.2024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Title 1" descr=""/>
          <p:cNvPicPr/>
          <p:nvPr/>
        </p:nvPicPr>
        <p:blipFill>
          <a:blip r:embed="rId1"/>
          <a:stretch/>
        </p:blipFill>
        <p:spPr>
          <a:xfrm>
            <a:off x="401760" y="152280"/>
            <a:ext cx="8742240" cy="586080"/>
          </a:xfrm>
          <a:prstGeom prst="rect">
            <a:avLst/>
          </a:prstGeom>
          <a:ln w="0">
            <a:noFill/>
          </a:ln>
        </p:spPr>
      </p:pic>
      <p:sp>
        <p:nvSpPr>
          <p:cNvPr id="441" name="Slide Number Placeholder 12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E89B5-8DB1-40D0-B990-AE658161BE5A}" type="slidenum">
              <a:rPr b="0" lang="en-US" sz="1200" spc="-1" strike="noStrike">
                <a:solidFill>
                  <a:srgbClr val="7b9899"/>
                </a:solidFill>
                <a:latin typeface="Georg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ounded Rectangle 7"/>
          <p:cNvSpPr/>
          <p:nvPr/>
        </p:nvSpPr>
        <p:spPr>
          <a:xfrm>
            <a:off x="404640" y="609480"/>
            <a:ext cx="8607600" cy="611208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емите на заявления за подпомагане за 2024 г. по интервенциите в сектора са както следв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Преструктуриране и конверсия на лозя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15.10.2023 – 30.11.2023 г. - приети заявления 74 бр., сключени 63 договора за 17 681 807.57 лв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08.07.2024 – 19.07.2024 г. - приети заявления 16 бр. Извършва се административна обработка по подадените заяв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Инвестиции в лозаро-винарския сектор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69500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01.2024 – 15.02.2024 г.  - приети заявления 59 бр., сключени са 29 договора за 12 977 275.69 лв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69500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.06.2024 – 16.06.2024 г.  - приети заявления 20 бр., сключени са 13 договора за 4 431 440.92 л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ъбиране на реколтата на зелено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Не издавана заповед от министъра на земеделието и храните за отваряне на прием по интервенция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Застраховане на реколтата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15.05.2024 – 15.06.2024 г. - Приети заявления 49 бр., подписани са 42 договора за 346 179.58 лв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Информиране в държавите членки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1.12.2023 – 15.12.2023 г. Няма подадени заявления за подпомагане в рамките на приема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Популяризиране в трети държави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01.12.2023 – 15.12.2023 г. Няма подадени заявления за подпомагане в рамките на прием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Инвестиции в екологични съоръжения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69500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01.2024 – 15.02.2024 г. – приети заявления 12 бр., сключени са 4 договора за 1 467 988.30 лв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03.06.2024 – 16.06.2024 г. приети заявления 3 бр., сключен е 1 договор за 250 360.15 лв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Title 1" descr=""/>
          <p:cNvPicPr/>
          <p:nvPr/>
        </p:nvPicPr>
        <p:blipFill>
          <a:blip r:embed="rId1"/>
          <a:stretch/>
        </p:blipFill>
        <p:spPr>
          <a:xfrm>
            <a:off x="401760" y="152280"/>
            <a:ext cx="8742240" cy="586080"/>
          </a:xfrm>
          <a:prstGeom prst="rect">
            <a:avLst/>
          </a:prstGeom>
          <a:ln w="0">
            <a:noFill/>
          </a:ln>
        </p:spPr>
      </p:pic>
      <p:sp>
        <p:nvSpPr>
          <p:cNvPr id="444" name="Slide Number Placeholder 12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CE4A0-5EC3-4473-9540-04DB969159DE}" type="slidenum">
              <a:rPr b="0" lang="en-US" sz="1200" spc="-1" strike="noStrike">
                <a:solidFill>
                  <a:srgbClr val="7b9899"/>
                </a:solidFill>
                <a:latin typeface="Georg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ounded Rectangle 7"/>
          <p:cNvSpPr/>
          <p:nvPr/>
        </p:nvSpPr>
        <p:spPr>
          <a:xfrm>
            <a:off x="404640" y="1523880"/>
            <a:ext cx="8607600" cy="80028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платена финансова помощ през финансовата 2024 г. по приети заявления в сектора по интервенц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ClipboardAsImage"/>
          <p:cNvSpPr/>
          <p:nvPr/>
        </p:nvSpPr>
        <p:spPr>
          <a:xfrm>
            <a:off x="2178000" y="34592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ClipboardAsImage"/>
          <p:cNvSpPr/>
          <p:nvPr/>
        </p:nvSpPr>
        <p:spPr>
          <a:xfrm>
            <a:off x="1981080" y="31464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1523880" y="2725560"/>
          <a:ext cx="6400800" cy="1441800"/>
        </p:xfrm>
        <a:graphic>
          <a:graphicData uri="http://schemas.openxmlformats.org/drawingml/2006/table">
            <a:tbl>
              <a:tblPr/>
              <a:tblGrid>
                <a:gridCol w="3200400"/>
                <a:gridCol w="1440000"/>
                <a:gridCol w="1760400"/>
              </a:tblGrid>
              <a:tr h="7210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тервенц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e0b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рой платени заявл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e0b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платена ФП в ле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e0b4"/>
                    </a:solidFill>
                  </a:tcPr>
                </a:tc>
              </a:tr>
              <a:tr h="36036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структуриране и конверсия на лозя – авансови плащ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e4d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e4d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608 826.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e4d6"/>
                    </a:solidFill>
                  </a:tcPr>
                </a:tc>
              </a:tr>
              <a:tr h="36036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страховане на реколтата – окончателни плащ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e4d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e4d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7 671.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e4d6"/>
                    </a:solidFill>
                  </a:tcPr>
                </a:tc>
              </a:tr>
            </a:tbl>
          </a:graphicData>
        </a:graphic>
      </p:graphicFrame>
      <p:sp>
        <p:nvSpPr>
          <p:cNvPr id="449" name="Rounded Rectangle 11"/>
          <p:cNvSpPr/>
          <p:nvPr/>
        </p:nvSpPr>
        <p:spPr>
          <a:xfrm>
            <a:off x="415800" y="4648320"/>
            <a:ext cx="8607600" cy="16603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платената финансова помощ през финансовата 2024 г. по интервенция </a:t>
            </a:r>
            <a:r>
              <a:rPr b="1" lang="bg-B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структуриране и конверсия на лозя</a:t>
            </a:r>
            <a:r>
              <a:rPr b="1" lang="bg-B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 за авансови плащания по сключените договор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щанията по интервенция „Застраховане на реколтата“ са окончател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Polina Pavlova Florova</dc:creator>
  <dc:description/>
  <dc:language>en-US</dc:language>
  <cp:lastModifiedBy>43 N</cp:lastModifiedBy>
  <dcterms:modified xsi:type="dcterms:W3CDTF">2024-09-10T17:04:01Z</dcterms:modified>
  <cp:revision>377</cp:revision>
  <dc:subject/>
  <dc:title>Slide 1</dc:title>
</cp:coreProperties>
</file>