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793200" cy="99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4804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901800" y="748800"/>
            <a:ext cx="4991040" cy="374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0" y="9481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48040" y="9481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8E7F-1473-408C-9271-5845AE0F5D06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E82C-D90B-4965-AA9C-2635E2B377A6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BC3-368B-4BAA-A64F-45A925BD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B04-117E-4433-8DB1-B3087187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E1CC1-1B88-41D7-8AB5-DB706180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B7F58-A478-4D33-B252-64748684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748F7-AF1D-4AC8-ABC0-24FA4B13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DB14C-E328-4859-B4BC-ED6B1E9B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38594-769F-4407-B1B6-DCD4CD73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7E883-F818-4214-B49D-4079DD7F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69CEE-7471-40BF-BB32-A383FA73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ABBBD-1456-4F1C-902C-C23FEA56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16762-CB32-4496-B563-01AD5808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827-0273-4D1D-B449-A94D62CC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E1CA-405D-4A04-9406-656A0837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35E8-ED13-412E-9F7B-49C849D3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0654-56FE-492F-86B5-B3F0AF04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0BFA-77E5-46C3-8DFA-EB327953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6950-B171-48A5-BD8F-BEA495F1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7499-46A1-40C5-AF8E-7AB97856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D314-0F16-4E49-A4B9-1CE2E715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D105-520F-4033-B51A-BDA0421E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528-2BE5-4ED4-933D-2B553357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2CE6-18FE-4E16-872A-3068EF4E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33A8-C1B8-46DC-94F7-8678673A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E298-6DBD-4666-8EEA-C4B9165C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DEF1-B1AE-4465-BF11-7497F53A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CFAE-C80D-4260-A6A4-A449901C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AD2C4-D446-4628-AD8D-FCA2F8EF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3E433-5C3B-482A-AF01-40538487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AA547-DAD4-4F43-9AD2-4DA00F3B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FFC41-E49D-4B0A-A8A0-E67CBF08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D928D-F9F3-48FD-8FD8-A7143375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DE85-3573-456D-AEF9-16F7A6F8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624D2-0EB9-4AFB-AAE8-C3B5F825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5675-5148-4727-A7E8-67826399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459BB-61AE-44AE-BCF0-07ACCAB7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C7A39-1BEC-4006-918B-7054FF65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97E9A-8A3D-420E-9807-D81B63B7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C53B5-E183-48C7-9D62-7784D72B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7FAF3-A901-49E2-90AF-173B2A21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5A711-50AE-46DB-A8F5-B8D464A8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E1969-73AD-4AA6-88BF-772C284F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9A20E-54CD-4B5A-9217-E42A14E2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ABE8-7465-41AF-B7E4-7DAE0AA2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6BB06-DE75-40B7-9186-9961BF3E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A8D45-4E0A-46B2-BD58-7F7C622A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36855-0CEF-46B2-AA4F-01EA8F4A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7EAC1-8EEB-42A1-BA70-074082CF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3EF06-912B-4088-BAA6-5F4C13AD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B6E27-DB73-4DA6-A404-C85A6B7C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16ECA-90B5-4779-9CE6-5B3BC43B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27A6B-5D3A-40FD-8AD0-AFA7B4E5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DE399-D72B-4D80-AEE6-19DD4374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3A760-ED00-41AF-AD99-E5669D91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EDF-FBF3-4FDD-888C-3B3EDFBA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B722C-E4D7-4962-A75A-C3F40F15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F941E-B66E-4349-828F-DB2C3AEB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1C09A-B8F9-45B6-B9D1-04B25231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EF5C9-B230-4B70-9AE8-79D7E2E5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AE6F9-1457-44E2-A9B4-8CFC52D9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1BD38-DA2E-4872-8FBF-8E35304A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54E68-3D57-465F-A5ED-2C161B3B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ABB71-5B33-4B8E-A8C4-4ABFCBC5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0B13F-C602-4D70-94F7-3345AF44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C2C84-A269-42C0-B626-C6A109B3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1E6-0DED-431C-824C-55EE9446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C90BD-D5C1-4A67-89BE-73D744FF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BC8A3-5AF2-4DC4-B788-C36F2640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40E43-C9CB-4DDB-AB3F-8851C699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48134-C0F7-4931-9A94-6A729917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16D7C-CE0B-4A61-918D-67089195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5015E-5708-41E6-BDC1-BEA45B1C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35360-E94E-4644-B0C7-40B1620E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132EB-8E8A-4320-A340-6C733038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70043-49D7-4551-9F51-D9939CA2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D6DAE-100B-432B-8B51-C20E351F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E58-0B65-4866-BDB5-B81901E8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15F04-0F4F-4C83-B823-67C1F033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25E30-5F5F-4150-8DFB-BF905B76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FBC1D-4DEA-4A93-AEF0-B17D3BEC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22A5B-0818-4521-887F-44ADC109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AEEC1-AB73-414C-8265-6CB910FD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6D2EB-B479-4BF1-B4D7-1831D320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DC389-D504-499F-B631-AB9DA077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04EE8-1EBA-4B7B-BF07-784178C1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82F86-787B-4026-9BF8-F4692CB0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F7960-A708-4CCA-82AF-34A54D5D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801-D256-4D3F-BA72-F0D2B8C8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22C1F-F353-48B2-BFA0-0B72F0D0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0EC77-DC70-4D61-A4EC-74610EFA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C0904-92CF-4B19-90D7-DDC43327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EF950-4FE4-4511-90E9-036D3052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8A679-0287-4F2C-9CA5-073749B0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AF09D-E9A6-48F9-9B98-1628E0D6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2A70A-7350-4457-B282-0EADBC10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71836-1DA9-4D1E-B7CB-EFB41EB9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26DFC-9D3A-4851-9DC8-FC185453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B5A1B-0109-496A-83F2-4BAFB223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B92-9ECF-4868-811C-A6A65EB6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787B1-2040-447D-BF6F-70C7E198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8974B-B879-4987-BF1A-518AE6A1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4BFE4-9021-482F-83E4-97EBF0CB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6DD5F-9CA7-4E9C-A766-8616EB63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9D149-A3B5-4283-8CF1-24A0303E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4BDEA-8F4E-40FE-883D-5259ED93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9FD5F-C01C-4B53-A79F-BB78371F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84483-2197-486F-906D-C53DDC06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3DC3D-082A-49F0-801E-243923C6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B1B66-975B-4B94-A0DC-EB1576CB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F6EE-54AF-423A-BE44-3B3709AAB01A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4307-33DC-4AF4-9659-53487A9CC38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A82F-5162-4BA1-9E00-AE89107AAFD3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7079-2DF3-44D3-8222-B2BD44F6916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C63D-8A0D-402D-80F3-49065F23947E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395B-F718-42EF-8256-33844EC005C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CB42-99B1-43FA-BB10-AD427E612A2B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C04D-5B9D-49F7-A2B5-7B34DE17693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4E32-71D4-4061-9E92-97B9972F2810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64A5-A366-43BB-B96C-0A0B3C8FB36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0188-1234-4C02-B9C3-957B87A9EDE0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756B-7900-4223-8E42-FB6706546CA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3B48-1B0C-4F16-8C57-309795D48808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A1A5-E46A-4BBE-8251-C2D6BB9011C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CE91-69D4-42D7-A875-A0E19D36CDED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8D3E-842A-4FBE-B2C8-BA9E70C7873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8D9C-99AC-4124-BB90-64250EDA9BDA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5F58-514B-4EF7-8CFD-5017362A27B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dfz.bg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A750-50FB-477D-8A2F-AF11132C1510}" type="slidenum">
              <a:rPr b="0" lang="en-US" sz="1200" spc="-1" strike="noStrike">
                <a:solidFill>
                  <a:srgbClr val="7b989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4"/>
          <p:cNvSpPr/>
          <p:nvPr/>
        </p:nvSpPr>
        <p:spPr>
          <a:xfrm>
            <a:off x="1447920" y="4800600"/>
            <a:ext cx="60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и от Стратегическия план за развитие на земеделието и селските райони за периода 2023 – 2027 г. в сектора на пчеларство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1" descr=""/>
          <p:cNvPicPr/>
          <p:nvPr/>
        </p:nvPicPr>
        <p:blipFill>
          <a:blip r:embed="rId2"/>
          <a:stretch/>
        </p:blipFill>
        <p:spPr>
          <a:xfrm>
            <a:off x="3054240" y="414360"/>
            <a:ext cx="901800" cy="13953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"/>
          <p:cNvSpPr/>
          <p:nvPr/>
        </p:nvSpPr>
        <p:spPr>
          <a:xfrm>
            <a:off x="4038480" y="38088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ЪРЖАВЕ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ДЕЛ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01760" y="304920"/>
            <a:ext cx="8772480" cy="841320"/>
          </a:xfrm>
          <a:prstGeom prst="rect">
            <a:avLst/>
          </a:prstGeom>
          <a:ln w="0">
            <a:noFill/>
          </a:ln>
        </p:spPr>
      </p:pic>
      <p:sp>
        <p:nvSpPr>
          <p:cNvPr id="412" name="Slide Number Placeholder 1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5326-2301-4CC1-8DBD-3FD037590D51}" type="slidenum">
              <a:rPr b="0" lang="en-US" sz="1200" spc="-1" strike="noStrike">
                <a:solidFill>
                  <a:srgbClr val="7b989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Rounded Rectangle 5" descr=""/>
          <p:cNvPicPr/>
          <p:nvPr/>
        </p:nvPicPr>
        <p:blipFill>
          <a:blip r:embed="rId2"/>
          <a:stretch/>
        </p:blipFill>
        <p:spPr>
          <a:xfrm>
            <a:off x="457200" y="1146240"/>
            <a:ext cx="8156520" cy="1444680"/>
          </a:xfrm>
          <a:prstGeom prst="rect">
            <a:avLst/>
          </a:prstGeom>
          <a:ln w="0">
            <a:noFill/>
          </a:ln>
        </p:spPr>
      </p:pic>
      <p:sp>
        <p:nvSpPr>
          <p:cNvPr id="414" name="Rounded Rectangle 6"/>
          <p:cNvSpPr/>
          <p:nvPr/>
        </p:nvSpPr>
        <p:spPr>
          <a:xfrm>
            <a:off x="689040" y="2743200"/>
            <a:ext cx="7759800" cy="14479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3.06.2023 г. в бр. 54 на ДВ е публикувана НАРЕДБА № 8 от 20.06.2023 г. за условията и реда за прилагане на интервенциите от Стратегическия план за развитие на земеделието и селските райони за периода 2023 – 2027 г. в сектора на пчеларство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ounded Rectangle 8"/>
          <p:cNvSpPr/>
          <p:nvPr/>
        </p:nvSpPr>
        <p:spPr>
          <a:xfrm>
            <a:off x="720720" y="4343400"/>
            <a:ext cx="7728120" cy="9111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ът на заявления за подпомагане стартира със заповед на изпълнителния директор на ДФЗ с бюджети по дейностите по интервенциите, определени  със заповед на министъра на земеделието и хран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ounded Rectangle 7"/>
          <p:cNvSpPr/>
          <p:nvPr/>
        </p:nvSpPr>
        <p:spPr>
          <a:xfrm>
            <a:off x="720720" y="5410080"/>
            <a:ext cx="7585200" cy="8384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а на прием 17-26.07.2023 г. са подадени 1 729 бр. заявления за подпомагане с общ размер на заявената финансова помощ 8 047 654 л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37680" y="2022480"/>
            <a:ext cx="85042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9500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9500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9500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Slide Number Placeholder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016D-02C3-4783-941C-2110EA2CB5D7}" type="slidenum">
              <a:rPr b="0" lang="en-US" sz="1200" spc="-1" strike="noStrike">
                <a:solidFill>
                  <a:srgbClr val="7b989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401760" y="304920"/>
            <a:ext cx="8772480" cy="841320"/>
          </a:xfrm>
          <a:prstGeom prst="rect">
            <a:avLst/>
          </a:prstGeom>
          <a:ln w="0">
            <a:noFill/>
          </a:ln>
        </p:spPr>
      </p:pic>
      <p:pic>
        <p:nvPicPr>
          <p:cNvPr id="420" name="Rounded Rectangle 8" descr=""/>
          <p:cNvPicPr/>
          <p:nvPr/>
        </p:nvPicPr>
        <p:blipFill>
          <a:blip r:embed="rId2"/>
          <a:stretch/>
        </p:blipFill>
        <p:spPr>
          <a:xfrm>
            <a:off x="512640" y="1133640"/>
            <a:ext cx="8101080" cy="54288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11"/>
          <p:cNvSpPr/>
          <p:nvPr/>
        </p:nvSpPr>
        <p:spPr>
          <a:xfrm>
            <a:off x="512640" y="1692360"/>
            <a:ext cx="8077320" cy="51656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1. "Консултантски услуги, техническа помощ, обучение, информация и обмен на добри практики, включително чрез работа в мрежа, за пчелари и пчеларски организации" за дейностит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а) "Информационни семинари/лектории за повишаване на знанията по конкретни теми, насочени към сектор пчеларство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б) "Демонстрационни дейности и посещения на земеделски стопанства (демонстрационен обект) за краткосрочен обмен на опит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в) "Разработване на наръчник/наръчници за добри практики, включително нормативни изисквания в пчеларството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2. "Борба срещу агресорите и болестите в кошера, особено срещу вароатозата" за дейностит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а) "Третиране на пчелните семейства срещу агресорите и болестите в кошера, особено срещу вароатозата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б) "Тестване на пчелните семейства за степента на опаразитеност с причинителя на вароатозата – Varroa destructor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3. "Подновяване на пчелните кошери в Съюза, включително развъждане на пчели" за дейността "Подновяване и/или увеличаване броя на пчелните кошери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4. "Рационализиране на подвижното пчеларство" за дейностит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а) "Подпомагане закупуването на нов инвентар, необходим при практикуване на подвижно пчеларство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б) "Възстановяване на част от разходите при практикуване на подвижно пчеларство за придвижване на пчелните семейства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5. "Инвестиции в материални и нематериални активи" за осигуряване на техническо оборудване, машини и съоръжения за добив и първична обработка на пчелни продукти, както и за обезпечаване на дейности, свързани с отглеждането и здравето на пчелните семейства;</a:t>
            </a:r>
            <a:r>
              <a:rPr b="0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6. "Действия за подпомагане на лабораториите за анализ на пчелните продукти, загубата на пчели или спада на производителността, както и потенциално токсичните за пчелите вещества" за дейностит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а) "Извършване на физикохимичен анализ на пчелен мед и пчелни продукти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б) "Извършване на анализи за наличие на остатъци от пестициди в хранителни запаси, восък и трупчета на пчели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7. "Действия за запазване или увеличаване на наличния брой пчелни кошери в Съюза, включително развъждане на пчели" за дейността "Запазване/възстановяване и/или увеличаване броя на пчелните семейства"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8. "Сътрудничество със специализирани органи за изпълнението на изследователски програми в областта на пчеларството и пчелните продукти" за дейността "Изпълнение на изследователски проекти, създаващи добавена стойност в областта на пчеларството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9. "Популяризиране, комуникация и маркетинг, включително действия за наблюдение на пазара и дейности, насочени по-специално към повишаване на осведомеността на потребителите относно качеството на пчелните продукти" за дейността "Организиране и провеждане на национално ниво на изложения, пресконференции, информационни кампании, фестивали, панаири"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37680" y="2022480"/>
            <a:ext cx="85042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9500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9500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9500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Slide Number Placeholder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B28D-2FF3-4927-A6E6-06BC46A21C9E}" type="slidenum">
              <a:rPr b="0" lang="en-US" sz="1200" spc="-1" strike="noStrike">
                <a:solidFill>
                  <a:srgbClr val="7b989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401760" y="304920"/>
            <a:ext cx="8772480" cy="841320"/>
          </a:xfrm>
          <a:prstGeom prst="rect">
            <a:avLst/>
          </a:prstGeom>
          <a:ln w="0">
            <a:noFill/>
          </a:ln>
        </p:spPr>
      </p:pic>
      <p:pic>
        <p:nvPicPr>
          <p:cNvPr id="425" name="Rounded Rectangle 8" descr=""/>
          <p:cNvPicPr/>
          <p:nvPr/>
        </p:nvPicPr>
        <p:blipFill>
          <a:blip r:embed="rId2"/>
          <a:stretch/>
        </p:blipFill>
        <p:spPr>
          <a:xfrm>
            <a:off x="512640" y="1017720"/>
            <a:ext cx="8155080" cy="585720"/>
          </a:xfrm>
          <a:prstGeom prst="rect">
            <a:avLst/>
          </a:prstGeom>
          <a:ln w="0">
            <a:noFill/>
          </a:ln>
        </p:spPr>
      </p:pic>
      <p:sp>
        <p:nvSpPr>
          <p:cNvPr id="426" name="Rounded Rectangle 11"/>
          <p:cNvSpPr/>
          <p:nvPr/>
        </p:nvSpPr>
        <p:spPr>
          <a:xfrm>
            <a:off x="609480" y="2209680"/>
            <a:ext cx="8151840" cy="36576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С промяната в Закона за подпомагане на земеделските производители (ЗПЗП) от 01.01.2023 г., всички земеделски стопани, които искат да подадат заявления за подпомагане, е необходимо да имат регистрация в Системата за електронни услуги (СЕУ). През СЕУ се осъществява и цялата комуникация между администрацията и бенефициерите на ДФЗ – РА. Кандидатите по интервенциите в сектор „Пчеларство“ подават документи за финансова подкрепа единствено чрез СЕУ с квалифициран електронен подпис (КЕП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51920" y="2895120"/>
            <a:ext cx="850428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9500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9500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9500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Slide Number Placeholder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49B7-4B09-4C5A-A925-3D2CCFCD4915}" type="slidenum">
              <a:rPr b="0" lang="en-US" sz="1200" spc="-1" strike="noStrike">
                <a:solidFill>
                  <a:srgbClr val="7b989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401760" y="304920"/>
            <a:ext cx="8772480" cy="841320"/>
          </a:xfrm>
          <a:prstGeom prst="rect">
            <a:avLst/>
          </a:prstGeom>
          <a:ln w="0">
            <a:noFill/>
          </a:ln>
        </p:spPr>
      </p:pic>
      <p:sp>
        <p:nvSpPr>
          <p:cNvPr id="430" name="Rounded Rectangle 7"/>
          <p:cNvSpPr/>
          <p:nvPr/>
        </p:nvSpPr>
        <p:spPr>
          <a:xfrm>
            <a:off x="587520" y="1219320"/>
            <a:ext cx="8315280" cy="6858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ълнение по подписани договори за финансова 202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ounded Rectangle 16"/>
          <p:cNvSpPr/>
          <p:nvPr/>
        </p:nvSpPr>
        <p:spPr>
          <a:xfrm>
            <a:off x="457200" y="2133720"/>
            <a:ext cx="7983360" cy="12189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в връзка с късното приемане на нормативните актове, следователно разработването на процедури за работа, системите ИСАК и СЕУ, за финансовата 2023 г. са изплатени 337 204.48 лв. на 168 бенефициери. Всички останали допустими заявления са платени в периода октомври 2023 – януари 202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655640" y="3405240"/>
          <a:ext cx="5499360" cy="3225600"/>
        </p:xfrm>
        <a:graphic>
          <a:graphicData uri="http://schemas.openxmlformats.org/drawingml/2006/table">
            <a:tbl>
              <a:tblPr/>
              <a:tblGrid>
                <a:gridCol w="3530880"/>
                <a:gridCol w="927000"/>
                <a:gridCol w="1041480"/>
              </a:tblGrid>
              <a:tr h="177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ен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e0b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. заяв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e0b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платена су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e0b4"/>
                    </a:solidFill>
                  </a:tcPr>
                </a:tc>
              </a:tr>
              <a:tr h="3808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2 - Борба срещу агресорите и болестите в кошера, особено срещу вароатоз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686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  <a:tr h="3808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3 - Подновяване на пчелните кошери в Съюза, включително развъждане на пч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 590.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5 - Инвестиции в материални и нематериални актив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 779.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  <a:tr h="761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6A- Действия за подпомагане на лабораториите за анализ на пчелните продукти, загубата на пчели или спада на производителността, както и потенциално токсичните за пчелите веще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99.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  <a:tr h="5716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7A - Действия за запазване или увеличаване на наличния брой пчелни кошери в Съюза, включително развъждане на пчели - пчелни май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736.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  <a:tr h="5713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7A - Действия за запазване или увеличаване на наличния брой пчелни кошери в Съюза, включително развъждане на пчели - отвод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3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e4d6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e0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e0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 204.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e0b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151920" y="2895120"/>
            <a:ext cx="850428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9500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9500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9500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Slide Number Placeholder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4D55-F1FD-409A-82CA-4E8013EE2408}" type="slidenum">
              <a:rPr b="0" lang="en-US" sz="1200" spc="-1" strike="noStrike">
                <a:solidFill>
                  <a:srgbClr val="7b9899"/>
                </a:solidFill>
                <a:latin typeface="Georg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401760" y="304920"/>
            <a:ext cx="8772480" cy="841320"/>
          </a:xfrm>
          <a:prstGeom prst="rect">
            <a:avLst/>
          </a:prstGeom>
          <a:ln w="0">
            <a:noFill/>
          </a:ln>
        </p:spPr>
      </p:pic>
      <p:sp>
        <p:nvSpPr>
          <p:cNvPr id="436" name="Rounded Rectangle 7"/>
          <p:cNvSpPr/>
          <p:nvPr/>
        </p:nvSpPr>
        <p:spPr>
          <a:xfrm>
            <a:off x="587520" y="1219320"/>
            <a:ext cx="8315280" cy="6858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ЗА ВНИМАНИЕТ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ounded Rectangle 16"/>
          <p:cNvSpPr/>
          <p:nvPr/>
        </p:nvSpPr>
        <p:spPr>
          <a:xfrm>
            <a:off x="642960" y="2133720"/>
            <a:ext cx="5605560" cy="42670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ЧЕ ИНФОРМАЦИЯ ЗА СХЕМИТЕ, МЕРКИТЕ И ИНТЕРВЕНЦИИТЕ АДМИНИСТРИРАНИ ОТ ДФ „ЗЕМЕДЕЛИЕ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на ДФЗ, ОПСМ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8-те административни области – </a:t>
            </a:r>
            <a:r>
              <a:rPr b="1" lang="bg-BG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явления за подпомаг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на ДФЗ, ОР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1 от административните области – </a:t>
            </a:r>
            <a:r>
              <a:rPr b="1" lang="bg-BG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явления за плащ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2"/>
              </a:rPr>
              <a:t>WWW.DFZ.B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Z@DFZ.B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3"/>
          <a:srcRect l="14853" t="0" r="15598" b="0"/>
          <a:stretch/>
        </p:blipFill>
        <p:spPr>
          <a:xfrm>
            <a:off x="6284880" y="2743200"/>
            <a:ext cx="276084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olina Pavlova Florova</dc:creator>
  <dc:description/>
  <dc:language>en-US</dc:language>
  <cp:lastModifiedBy>Simeon Vasilev Blagoev</cp:lastModifiedBy>
  <dcterms:modified xsi:type="dcterms:W3CDTF">2024-09-05T10:46:41Z</dcterms:modified>
  <cp:revision>358</cp:revision>
  <dc:subject/>
  <dc:title>Slide 1</dc:title>
</cp:coreProperties>
</file>