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64E-8155-4E20-AFEF-BE705552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29B-180F-4075-AE8A-DEAE026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3B4-EE72-45D9-8852-A8BC965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166-4942-40E1-A907-B6135451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ED4-79EE-4459-9528-FDD21FA7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06A-F2EA-46A4-804F-94B9A6E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AEF-E508-412D-9892-059B4F08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A8A-3AC3-41FE-8A8E-AE8191D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8F9-0983-42EA-90D8-2352C60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D11-F669-4F8A-8AFB-491EEBF7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29C-DDB7-4D46-8EF3-52FCAA1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BDA-C888-48FF-8827-EDE0A6D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855F-AA6D-4266-BC44-51B3875EB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333360"/>
          <a:ext cx="889308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88930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250920" y="0"/>
          <a:ext cx="8785080" cy="67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785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179280" y="274680"/>
          <a:ext cx="8713800" cy="65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74680"/>
                    <a:ext cx="8713800" cy="65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324000" y="333360"/>
          <a:ext cx="8569080" cy="647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569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4:14:57Z</dcterms:created>
  <dc:creator>Name</dc:creator>
  <dc:description/>
  <dc:language>en-US</dc:language>
  <cp:lastModifiedBy>Evelina Petrova</cp:lastModifiedBy>
  <dcterms:modified xsi:type="dcterms:W3CDTF">2012-11-08T10:56:11Z</dcterms:modified>
  <cp:revision>7</cp:revision>
  <dc:subject/>
  <dc:title>Slide 1</dc:title>
</cp:coreProperties>
</file>